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0.wmf" ContentType="image/x-wmf"/>
  <Override PartName="/ppt/media/image28.png" ContentType="image/png"/>
  <Override PartName="/ppt/media/image49.wmf" ContentType="image/x-wmf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51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62.wmf" ContentType="image/x-wmf"/>
  <Override PartName="/ppt/media/image22.png" ContentType="image/png"/>
  <Override PartName="/ppt/media/image4.wmf" ContentType="image/x-wmf"/>
  <Override PartName="/ppt/media/image59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.wmf" ContentType="image/x-wmf"/>
  <Override PartName="/ppt/media/image58.png" ContentType="image/png"/>
  <Override PartName="/ppt/media/image21.png" ContentType="image/png"/>
  <Override PartName="/ppt/media/image23.png" ContentType="image/png"/>
  <Override PartName="/ppt/media/image36.png" ContentType="image/png"/>
  <Override PartName="/ppt/media/image20.png" ContentType="image/png"/>
  <Override PartName="/ppt/media/image24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0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32CF-1C00-4808-BD05-F2B0D5F28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AAD462-680A-47EF-8E7E-F611E102F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0557B7-B4AA-4B1E-9D2B-FA39323CF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E9FB06-4FE4-42D3-B9DD-BD415CBE0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BDE9-6EF9-4BDF-B1AD-0A493246F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E45DB3-23AF-4D3D-8830-2F8678E9B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18295A-ED3C-4A38-95DE-BAAE693B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078F4D-0DDE-4E49-BACA-C7B8A1F8B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388571-15CC-41AF-B19D-4784E4389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6C6B3E-237F-47A5-B2A0-42B0AE383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3B7BDB-7ABE-467F-A3C9-2245DD0B7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767F80-5360-46B9-930A-FB357A1D2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DF8ED5-65E1-44A4-B653-0FFA6046E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5E69ED-CB9B-4DB8-B63E-61B22DF2B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CF6ACE-3ECB-42E4-94AD-6935C526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9B8FD6-2D60-4409-8CC0-86940FD6F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08FD64-2B9E-4668-9280-BB94E633E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DDFA27-B2D2-4634-9947-128D9507D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A31BCB-87ED-4089-9020-AF7F914AE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FF48A7-6E33-4EAF-8766-7B534B0BD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BFD5AB-5CB4-4D7C-89E8-5E73049DA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008170-AE57-45AD-839A-1723E3697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E79DE5-7C2D-4344-B611-6D737A180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018A-3A8A-4724-A969-F6CFA911E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85280E-8901-4AB5-A80C-0934B4284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81BE43-8AB0-46D8-B24A-555054A64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92427B-CCF0-43DB-B55D-D2326F0B9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1F7674-C90D-4D85-8ADA-332DDF6D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4B1474-3196-4B1D-BBA6-3ECEF92B5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F3D699-5B4A-4790-9BEB-4EE5D1907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A0034F-6474-4BBE-9290-40D7B65A9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B9C591-098B-433F-B046-FA5E8B6CE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E5C207-3A01-4D97-96A8-4F825AF7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8353-8CD0-4424-BB80-A22B14D72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BD8C55-B166-4835-AC65-059896A9B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64E4-21C4-4877-BF73-8D5A898A2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7F49-E75E-4A79-BB39-10D34623A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D86C57-A4D8-495E-B508-050CB120B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42A2A6-70B0-49C4-9E99-3FE4D76C2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15C-957C-4D85-A132-69F08931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768-D081-43BA-BE00-0B546660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0EC-4893-4473-BF42-D89A1E74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503-A29B-4E3E-AAD6-F1B442CF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52C2A-7AB5-496B-8B5D-58E3920ADA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5133B-B10C-4457-86B2-B3F6B77560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8AE93-B1DC-4A29-A159-6A65425D2E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B2B19-8FFE-4E32-9D7D-25D1FC0072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D3C36-8F55-4188-97B2-FA6C60FF52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175B7-E07E-4E5D-B252-F17584A482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0DDCA-1EF4-4A53-ADF5-57FE1A5935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810-AA27-4DC9-BF26-F82E554D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ED829-A1B3-4462-A667-5F5CBAF656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AE361-FB58-41E7-944C-B38873F355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0F44D-D9DA-4B7D-9EB6-47A80EB4DA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AD844-AF9D-4E29-A120-D6A83343E9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4CAE9-70D1-46DE-A4F4-782732125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220-E3FB-4ED5-8F89-DCB01807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55F-78D6-49CB-849B-96B8305D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75C-70B6-4A1D-9DFD-C68312A4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4FD-5E47-4320-B9AC-EF5A13E1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1904-7B22-4C00-A41B-45376505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1A2-BEBA-41C3-B1D6-C0D03920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042-AAAD-48CF-881F-EE1526B1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C022-8E81-4AEC-97E2-BBDF64F191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F829-0B50-4937-B68F-BA9EC925C6A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27E-3098-4AC4-B45A-1674477F1F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ur parame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length,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twist 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offset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joint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trix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function of only a single variab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 turns out that three of the above four quantities are constant for a given link, while the fourth parameter is the joint vari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4898-7489-4E0E-A13D-5179D31A39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oint, a joint variable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joints are represented by the z-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revolute, the z-axis is in the direction of rotation as followed by the right hand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prismatic, the z-axis for the joint is along the direction of the liner m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AD50-6061-4DEC-8BA8-BE871EB52B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4984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bine all transformations, from the first joint (base) to the next until we get to the last joint, to get the robot’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tal transformation matr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From     , the position and orientation of the tool frame are calcul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8BBD-7B58-47B9-8790-372759AE21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8"/>
          <p:cNvGraphicFramePr/>
          <p:nvPr/>
        </p:nvGraphicFramePr>
        <p:xfrm>
          <a:off x="1676520" y="3657600"/>
          <a:ext cx="3076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3076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76520" y="4518000"/>
          <a:ext cx="38088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18000"/>
                    <a:ext cx="380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5AB1-AD45-454D-AA89-DFA7EC34F5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Documents and Settings\Administrator\Desktop\untitled.bmp"/>
          <p:cNvPicPr/>
          <p:nvPr/>
        </p:nvPicPr>
        <p:blipFill>
          <a:blip r:embed="rId1"/>
          <a:stretch/>
        </p:blipFill>
        <p:spPr>
          <a:xfrm>
            <a:off x="457200" y="1514520"/>
            <a:ext cx="8448840" cy="534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AF8B-6CD3-4514-8E0F-06EECD7F5C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7105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5756-B2E5-4163-AB8F-7DE2929FF5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Administrator\Desktop\untitled.bmp"/>
          <p:cNvPicPr/>
          <p:nvPr/>
        </p:nvPicPr>
        <p:blipFill>
          <a:blip r:embed="rId2"/>
          <a:stretch/>
        </p:blipFill>
        <p:spPr>
          <a:xfrm>
            <a:off x="304920" y="1523880"/>
            <a:ext cx="8629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13CE-472C-44E1-BC55-0433018056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866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9"/>
          <p:cNvGraphicFramePr/>
          <p:nvPr/>
        </p:nvGraphicFramePr>
        <p:xfrm>
          <a:off x="2133720" y="2895480"/>
          <a:ext cx="41446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89548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813456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5"/>
          <a:stretch/>
        </p:blipFill>
        <p:spPr>
          <a:xfrm>
            <a:off x="457200" y="1295280"/>
            <a:ext cx="83059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F74-0C51-4729-83E3-6D2E58777C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9"/>
          <p:cNvSpPr/>
          <p:nvPr/>
        </p:nvSpPr>
        <p:spPr>
          <a:xfrm>
            <a:off x="838080" y="1925640"/>
            <a:ext cx="4419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fram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Z ‘s are normal to th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9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49892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0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973F-82D6-4710-B419-3B39990B0B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829120" cy="180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00E-B21F-48E5-8DD4-94EF06C8A0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6381720" cy="442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and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and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7A33-C942-4F5C-A7BA-F018FDAA87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2C27-EC4E-4C75-9282-D5BD719E97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3143160" cy="396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57150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2F18-665D-402D-9D20-37BF28A2F7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486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60E8-E0AB-4849-A69E-5DF88201C5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71880" cy="4905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4387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83A-4835-4CA5-A1F5-B929CD304A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371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8F91-159A-4EB3-B2F2-86B12644BC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00240" y="2728800"/>
            <a:ext cx="49435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F54D-46E9-4E32-9520-727EB82D2D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71600" y="2263680"/>
            <a:ext cx="5562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5508-5B97-486D-B987-0FAE71D4CE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105440" cy="3284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6097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3448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30A-496E-4D72-86EC-F82BF05999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581200" y="1849320"/>
            <a:ext cx="3981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61CA-7F7F-4A9D-AF32-E0502E6C52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3A36-54BB-497A-9489-88F49371A7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10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homogeneous transformatio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ng the tool frame to the fixed bas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FE05-FAE5-46E9-A766-2506F06CD2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676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D514-F0AD-4234-8D94-16046FF876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0208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5"/>
          <p:cNvGraphicFramePr/>
          <p:nvPr/>
        </p:nvGraphicFramePr>
        <p:xfrm>
          <a:off x="819000" y="3886200"/>
          <a:ext cx="6289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3886200"/>
                    <a:ext cx="628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524560" y="3962520"/>
          <a:ext cx="495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4560" y="3962520"/>
                    <a:ext cx="495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by example 2, and        given by example  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7F58-E582-4BCC-8A7C-63AAA184C1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458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1AF3-0E18-4D35-9980-8E407FEC58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063880" y="1676520"/>
            <a:ext cx="443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8021-0BD2-4E15-9063-B2EF1141BA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kinema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position of the end-effector: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orientation {Roll, Pitch, Yaw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32000" y="3886200"/>
          <a:ext cx="53737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886200"/>
                    <a:ext cx="5373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l Pitch Y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801320" y="2048040"/>
            <a:ext cx="4035600" cy="3517200"/>
            <a:chOff x="4801320" y="2048040"/>
            <a:chExt cx="4035600" cy="3517200"/>
          </a:xfrm>
        </p:grpSpPr>
        <p:grpSp>
          <p:nvGrpSpPr>
            <p:cNvPr id="239" name="Group 4"/>
            <p:cNvGrpSpPr/>
            <p:nvPr/>
          </p:nvGrpSpPr>
          <p:grpSpPr>
            <a:xfrm>
              <a:off x="5332320" y="2527200"/>
              <a:ext cx="3200400" cy="2743200"/>
              <a:chOff x="5332320" y="2527200"/>
              <a:chExt cx="3200400" cy="2743200"/>
            </a:xfrm>
          </p:grpSpPr>
          <p:sp>
            <p:nvSpPr>
              <p:cNvPr id="240" name="Line 5"/>
              <p:cNvSpPr/>
              <p:nvPr/>
            </p:nvSpPr>
            <p:spPr>
              <a:xfrm flipV="1">
                <a:off x="6703920" y="252720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6"/>
              <p:cNvSpPr/>
              <p:nvPr/>
            </p:nvSpPr>
            <p:spPr>
              <a:xfrm flipH="1">
                <a:off x="5332320" y="435600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6703920" y="4356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6399000" y="306072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 rot="16336800">
                <a:off x="5724360" y="466164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 rot="5753400">
                <a:off x="7395840" y="418140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 Box 11"/>
            <p:cNvSpPr/>
            <p:nvPr/>
          </p:nvSpPr>
          <p:spPr>
            <a:xfrm>
              <a:off x="480132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8436600" y="41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6442200" y="2048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Object 1024"/>
            <p:cNvGraphicFramePr/>
            <p:nvPr/>
          </p:nvGraphicFramePr>
          <p:xfrm>
            <a:off x="5402160" y="4324680"/>
            <a:ext cx="380880" cy="41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2160" y="4324680"/>
                      <a:ext cx="380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1" name="Object 1025"/>
                <p:cNvSpPr txBox="1"/>
                <p:nvPr/>
              </p:nvSpPr>
              <p:spPr>
                <a:xfrm>
                  <a:off x="7916760" y="454212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Object 1026"/>
                <p:cNvSpPr txBox="1"/>
                <p:nvPr/>
              </p:nvSpPr>
              <p:spPr>
                <a:xfrm>
                  <a:off x="6870600" y="255744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3" name="Object 15"/>
          <p:cNvGraphicFramePr/>
          <p:nvPr/>
        </p:nvGraphicFramePr>
        <p:xfrm>
          <a:off x="457200" y="2514600"/>
          <a:ext cx="5257800" cy="14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52578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478425-6EB0-4910-B91D-B8119D5CFE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228600" y="4105440"/>
          <a:ext cx="4495680" cy="23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105440"/>
                    <a:ext cx="44956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38CE-2433-4F35-892B-A9FA4BB34B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calcul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the matrix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 w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f the matr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Object 2"/>
          <p:cNvGraphicFramePr/>
          <p:nvPr/>
        </p:nvGraphicFramePr>
        <p:xfrm>
          <a:off x="4238640" y="1600200"/>
          <a:ext cx="19335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1600200"/>
                    <a:ext cx="1933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"/>
          <p:cNvGraphicFramePr/>
          <p:nvPr/>
        </p:nvGraphicFramePr>
        <p:xfrm>
          <a:off x="3048120" y="3429000"/>
          <a:ext cx="4762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429000"/>
                    <a:ext cx="4762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6"/>
          <p:cNvGraphicFramePr/>
          <p:nvPr/>
        </p:nvGraphicFramePr>
        <p:xfrm>
          <a:off x="533520" y="4343400"/>
          <a:ext cx="5867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343400"/>
                    <a:ext cx="586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5"/>
          <p:cNvGraphicFramePr/>
          <p:nvPr/>
        </p:nvGraphicFramePr>
        <p:xfrm>
          <a:off x="851040" y="5664240"/>
          <a:ext cx="13586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5664240"/>
                    <a:ext cx="1358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6"/>
          <p:cNvGraphicFramePr/>
          <p:nvPr/>
        </p:nvGraphicFramePr>
        <p:xfrm>
          <a:off x="2514600" y="5638680"/>
          <a:ext cx="14079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638680"/>
                    <a:ext cx="140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7"/>
          <p:cNvGraphicFramePr/>
          <p:nvPr/>
        </p:nvGraphicFramePr>
        <p:xfrm>
          <a:off x="4184640" y="5638680"/>
          <a:ext cx="145404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4640" y="5638680"/>
                    <a:ext cx="1454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2"/>
          <p:cNvGraphicFramePr/>
          <p:nvPr/>
        </p:nvGraphicFramePr>
        <p:xfrm>
          <a:off x="1130400" y="6242040"/>
          <a:ext cx="119520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0400" y="6242040"/>
                    <a:ext cx="1195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3"/>
          <p:cNvGraphicFramePr/>
          <p:nvPr/>
        </p:nvGraphicFramePr>
        <p:xfrm>
          <a:off x="2590920" y="6095880"/>
          <a:ext cx="1295280" cy="542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6095880"/>
                    <a:ext cx="1295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4"/>
          <p:cNvGraphicFramePr/>
          <p:nvPr/>
        </p:nvGraphicFramePr>
        <p:xfrm>
          <a:off x="4114800" y="6019920"/>
          <a:ext cx="154944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6019920"/>
                    <a:ext cx="15494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5"/>
          <p:cNvGraphicFramePr/>
          <p:nvPr/>
        </p:nvGraphicFramePr>
        <p:xfrm>
          <a:off x="5962680" y="2577960"/>
          <a:ext cx="1428840" cy="115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2680" y="2577960"/>
                    <a:ext cx="142884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:R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C090-5088-4003-A076-50C7E7162B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447920" y="2286000"/>
          <a:ext cx="4952880" cy="2819520"/>
        </p:xfrm>
        <a:graphic>
          <a:graphicData uri="http://schemas.openxmlformats.org/drawingml/2006/table">
            <a:tbl>
              <a:tblPr/>
              <a:tblGrid>
                <a:gridCol w="1031760"/>
                <a:gridCol w="939960"/>
                <a:gridCol w="1131840"/>
                <a:gridCol w="812520"/>
                <a:gridCol w="1036800"/>
              </a:tblGrid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Spong book: page 1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2, 3.3, 3.4, 3.6 , 3.7, 3.8, 3.9, 3.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lass on next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7192-7B0E-4E17-975C-D4E6B710E3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4CD2-F002-41F4-99D5-B3E5DB89CD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009880" cy="1380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7" descr=""/>
          <p:cNvPicPr/>
          <p:nvPr/>
        </p:nvPicPr>
        <p:blipFill>
          <a:blip r:embed="rId2"/>
          <a:stretch/>
        </p:blipFill>
        <p:spPr>
          <a:xfrm>
            <a:off x="457200" y="1062000"/>
            <a:ext cx="7467480" cy="25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16"/>
          <p:cNvGraphicFramePr/>
          <p:nvPr/>
        </p:nvGraphicFramePr>
        <p:xfrm>
          <a:off x="1855800" y="4038480"/>
          <a:ext cx="294336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5800" y="4038480"/>
                    <a:ext cx="29433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457200" y="40384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                                    are  Roll, Pitch, and Y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present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kinema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927000" y="2347920"/>
          <a:ext cx="198756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347920"/>
                    <a:ext cx="198756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5"/>
          <p:cNvGraphicFramePr/>
          <p:nvPr/>
        </p:nvGraphicFramePr>
        <p:xfrm>
          <a:off x="4927680" y="2903400"/>
          <a:ext cx="30970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7680" y="2903400"/>
                    <a:ext cx="30970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B540-403A-447D-B396-F89EE959CC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800960" y="160020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simple way of modeling robot links and joints that can be used for any kind of robot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echnique has became the standard way of representing robots and modeling their 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D5AA-D57A-44B2-BC81-AB6B0826FD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s: we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+1 links. Link 0 is the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oints are numbered from 1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i connects link i − 1 to link 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{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ttached to joi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+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{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attached to the robot base (inertial frame) “joint 1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E358-E08D-4437-AE87-127E271A4B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a reference frame to each joi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-axis and z-axis). The D-H representation does not use the y-axis at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omogeneous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represented as a product of four basic transfor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81A-824F-4954-8A36-4754ADBD2E9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0C3C-261D-494B-824A-469F75095E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resenting the four movements is found by: four m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1066680" y="3962520"/>
          <a:ext cx="54864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5486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9"/>
          <p:cNvGraphicFramePr/>
          <p:nvPr/>
        </p:nvGraphicFramePr>
        <p:xfrm>
          <a:off x="349200" y="2438280"/>
          <a:ext cx="503244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2438280"/>
                    <a:ext cx="503244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FF6B-11CA-409B-A8C1-AAF459D301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1447920" y="4800600"/>
          <a:ext cx="4144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80060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685800" y="1447920"/>
                <a:ext cx="39304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648320" y="144792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3880" y="1829880"/>
            <a:ext cx="609624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762120" y="3048120"/>
                <a:ext cx="704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k and joint parameter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leng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: the offset distance between the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d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es along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offset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he distance from the origin of frame i−1 to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6822-F94B-43EB-9B3F-D9A4D92A1B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6900-713B-4DA6-9E33-E17F673FAA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0880" y="1414440"/>
            <a:ext cx="3581640" cy="29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233496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4179960"/>
            <a:ext cx="81532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k tw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:the angle from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 to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 about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sense for α is determined from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right-hand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int angl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ngle between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es about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</cp:lastModifiedBy>
  <dcterms:modified xsi:type="dcterms:W3CDTF">2009-09-15T01:45:51Z</dcterms:modified>
  <cp:revision>174</cp:revision>
  <dc:subject/>
  <dc:title>Robot Kinematics II </dc:title>
</cp:coreProperties>
</file>